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731-8435-45B0-8EEB-EC62404D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240-061C-4EFA-A2D6-CDFD1A25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D70-7E19-4207-8AEA-0A574BC5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A5D-082A-4423-86A9-83B84BB5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379-6F44-4910-9734-9AA18EA6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F6E-2365-4BD7-B69F-200B6B4E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4BE6-5E71-4151-A10F-973C8C38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CEE4-D2AC-4ED3-AFD6-AAF71603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E58-4F65-4E36-9631-5129FF79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8C3-3AAD-4785-8108-63F7B8C3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EBB-9762-4AD2-8910-F159BE24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728-A5AF-481F-9F93-5B82CC5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0840-63B5-42D7-A989-60C161AE7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8240" y="2286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M images of various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8920" y="685800"/>
            <a:ext cx="22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a polylysine mono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86160" y="685800"/>
            <a:ext cx="185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 with dendrites of sal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L3" descr=""/>
          <p:cNvPicPr/>
          <p:nvPr/>
        </p:nvPicPr>
        <p:blipFill>
          <a:blip r:embed="rId1"/>
          <a:srcRect l="0" t="13009" r="0" b="0"/>
          <a:stretch/>
        </p:blipFill>
        <p:spPr>
          <a:xfrm>
            <a:off x="533520" y="990720"/>
            <a:ext cx="3903480" cy="2547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2880" y="3200400"/>
            <a:ext cx="3481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lysine (5 mg/ml) 20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, 60 s. on mica, rinse, d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M (FM probe f=67 kHz) in a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9-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ILICON" descr=""/>
          <p:cNvPicPr/>
          <p:nvPr/>
        </p:nvPicPr>
        <p:blipFill>
          <a:blip r:embed="rId2"/>
          <a:srcRect l="0" t="14146" r="0" b="0"/>
          <a:stretch/>
        </p:blipFill>
        <p:spPr>
          <a:xfrm>
            <a:off x="533520" y="3962520"/>
            <a:ext cx="390348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5320" y="365760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FINU5" descr=""/>
          <p:cNvPicPr/>
          <p:nvPr/>
        </p:nvPicPr>
        <p:blipFill>
          <a:blip r:embed="rId3"/>
          <a:srcRect l="0" t="13009" r="0" b="0"/>
          <a:stretch/>
        </p:blipFill>
        <p:spPr>
          <a:xfrm>
            <a:off x="4952880" y="990720"/>
            <a:ext cx="390384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lastic_overview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3011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00280" y="3808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stic (from  a petri di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809880"/>
            <a:ext cx="35049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PB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 mode,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 9 kHz, k = 0.1 N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bsau240403g18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920" y="228600"/>
            <a:ext cx="29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 &lt;111&gt;, with probably a tortured rMBL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d in TBS; tapping mod with FM t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3048120"/>
            <a:ext cx="653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enriet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19:40Z</dcterms:created>
  <dc:creator>Dionne</dc:creator>
  <dc:description/>
  <dc:language>en-US</dc:language>
  <cp:lastModifiedBy>Henriette Jensenius</cp:lastModifiedBy>
  <dcterms:modified xsi:type="dcterms:W3CDTF">2003-05-21T09:56:37Z</dcterms:modified>
  <cp:revision>4</cp:revision>
  <dc:subject/>
  <dc:title>PowerPoint Presentation</dc:title>
</cp:coreProperties>
</file>